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8A8B-9AD8-4CBD-8B6F-F14EE77E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206-ACB1-4A3F-8485-F670B3CA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rawing shows what the symbols in a pedigree repres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11F-5221-4239-ACD9-BE960AA8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stic fibrosis is usually caused by the deletion of three bases in the DNA of a single gen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result, the body does not produce normal CFTR, a protein needed to transport chloride ions. Cystic fibrosis causes serious digestive and respira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495-1D7F-4283-911A-5FA255B7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C76-37FD-441F-BA60-71234CA4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DF1-3188-4E9E-8E6C-D2A01DE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0A4-DF58-44B0-BE76-2792E70E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97A-FB23-4D9E-BFFB-69A20049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528B-905A-4195-A082-CA24F5FB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2F1-4457-499F-B4C2-EBB48DCA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AD4-A455-4F82-950E-338F7169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3061-0217-4F4D-98E1-BF00D223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938-87BE-49D3-ADBD-1AF522DF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A9D-0DAC-49DE-B281-F54DACC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F2F8-7D30-482A-9EE4-6953F6FB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4E8-351C-49E3-96FF-161FE12E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32AC-D4A3-4246-8E34-3B2E34D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55FE-6356-464A-A085-5C271C6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CDD6-754E-408F-BB53-28C660C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0C9-DE0A-4833-9DBC-A65ECA0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F755-7220-415F-8FBF-E7537C2E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87EF-415B-4B35-AD0C-D6103847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D03F-D0BF-43FD-8EE1-5C48FDC3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DF52-67C3-4B50-88BE-A250B41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93BA-CD76-4F92-A8E1-82AE593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98B9-8CDE-47D0-AD04-378680A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D71-7F6C-46B6-9E59-32DCD99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7FC9-374E-421E-8ADE-985843B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DC02-6820-4068-AAC1-E94E367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804C-53EB-4EB8-A1B4-09902FC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0B7E-3916-4B32-ACFE-C39E840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48BA-BCDB-401B-A3B7-A1922CE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904E-54DE-43C1-9FBB-688AC2C3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CE62-2644-4E01-A9CB-564538DC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B61B-D7FA-4C78-B58E-5BBD2AF4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0DD1-F40A-4F63-AE5E-C081B5C3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4438-56B9-45EA-AE39-01C91B2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C87-5043-49F0-BF2C-A5E3C96A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A943-80B2-4264-B567-1A083152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09DB-0FB3-4776-BBF1-8F9E723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A92A-D886-4C80-AF82-690FABF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8A1A-1B2D-4315-BFFA-0823314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EF15-B58E-4E84-80C4-D958908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9AE0-DF72-453B-977D-F50D7A47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689D-3CF1-48F5-A995-2A6F290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83FB-4501-4C8D-91DB-0495FD68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951E-78CF-44F3-B4B5-1B3C0627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BC2C-C526-4575-9A57-CD2DD0B9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52E-4A15-4720-96DC-34ECF7F7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7C18-C670-43BA-A386-82D1D746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A2C1-4674-4BF8-8620-B60E8EA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73B3-7BEE-4311-9AA0-EC1ED769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AE049-32CA-4555-ACC8-478DCD8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EE7D-4CEF-4BA4-94CB-31493CE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D2BA-9D36-45AF-ADBC-3EAFA81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E645-13D5-4A49-AC9B-2DA4899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7247-D82F-4843-A27D-6A17907A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9EE0-BD61-4904-B7AE-54532BEA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DEB5-8709-46A1-A29C-F105F1BE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5CF-B83D-420B-A84B-D3AFFA4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62B2-0FCB-4E09-A10D-A65B806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5150-FC58-4434-A25B-0E2BC7B2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C6FC4-C701-43C6-BE12-ACAFA3D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4EE8B-58F0-4C6C-8C8B-753D20D8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7959-37E2-4893-96C3-E1A5B7F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3833-8129-4654-869F-12DBC2EF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A78F-96FD-4478-B44F-51423FE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544D-275E-495F-B7DD-2EEE76C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7690-5E26-4467-8FC6-F860193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03AA-1E18-4825-ACBC-8A53D0A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4B8-6914-4E20-A344-7B8F26C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C6605-296C-4DF9-9CC1-4F3AC88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40B0-0F75-4B6F-B921-B30E65C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9834-89FD-46CF-9164-3FF1C197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2E1B9-6940-4D01-AEF2-0BA5AAD6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188A-989E-4BBA-84B4-85438972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D64D-E7A1-4B20-8230-E61D0B9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C6F4-39EB-4131-B9E8-7E80F87A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91A2-E776-403B-97D7-B5407602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9FA65-F2D0-4989-BB37-6958F44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23AF-6D2F-43F5-BE69-A2EBA63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A19-22D0-4CFB-A153-47A0DF4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87C5-96E4-4A02-BAEE-3FD3345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39CD8-1E55-410C-962A-CBB58C8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AA9F8-2DBF-4D5D-87AD-AE353B1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EE7B-FFD4-4DA9-AD8E-465221AC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BAF87-F1CC-4DE6-A710-67AD65FD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76C2-1492-415C-A5EB-04A1B0F5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FBE7-4191-4BF4-B578-9C6C9E29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18EC-AE1D-4F0C-9BD8-FD0B3B20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464E-7700-4B41-B038-3B0AFAC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561CC-E293-440A-85E0-35E5408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94A-4DD0-4FCC-B965-DC79BDD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C72E-BC4B-4EB3-835C-F712066E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2044-3656-4F2A-9389-B0B68421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0163C-9A70-47AC-9F95-FAE8568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2D0E-DF2E-4C47-BC4B-725012F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7D0E-92B5-4BC6-BAC2-3301165C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566B-1CAB-41B2-9339-632E9B83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17B8D-A4CD-4926-B21A-62460ADE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DA0-53DD-40D4-8483-D2B84A5D48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2915-961F-493F-9D0B-E6801B4599F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56D4-9F4A-4BC3-A4BE-02D1C8F5CB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D25-64B0-43A4-A597-A842951113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EBE-41F2-4B10-A261-2DBFD0B5F2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96E3-3225-4A96-862A-15369814A7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AAC-69DA-4EA5-A41D-B8377B5D0C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179-2699-4770-ADBF-EA36557CDE7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youtube.com/watch?v=Ev3yKU93Vl0&amp;feature=related" TargetMode="External"/><Relationship Id="rId3" Type="http://schemas.openxmlformats.org/officeDocument/2006/relationships/hyperlink" Target="http://www.youtube.com/watch?v=Ev3yKU93Vl0&amp;feature=related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dentifying the nature of a trait, geneticists often look at family his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understanding the phenotypes of certain members of a family, they can gather more info about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organized in a pedigree ch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2"/>
          <p:cNvSpPr/>
          <p:nvPr/>
        </p:nvSpPr>
        <p:spPr>
          <a:xfrm>
            <a:off x="2527200" y="1287360"/>
            <a:ext cx="20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le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3" descr="1"/>
          <p:cNvPicPr/>
          <p:nvPr/>
        </p:nvPicPr>
        <p:blipFill>
          <a:blip r:embed="rId2"/>
          <a:stretch/>
        </p:blipFill>
        <p:spPr>
          <a:xfrm>
            <a:off x="1744560" y="2774880"/>
            <a:ext cx="5110200" cy="3422880"/>
          </a:xfrm>
          <a:prstGeom prst="rect">
            <a:avLst/>
          </a:prstGeom>
          <a:ln w="0">
            <a:noFill/>
          </a:ln>
        </p:spPr>
      </p:pic>
      <p:sp>
        <p:nvSpPr>
          <p:cNvPr id="410" name="Line 14"/>
          <p:cNvSpPr/>
          <p:nvPr/>
        </p:nvSpPr>
        <p:spPr>
          <a:xfrm flipH="1" flipV="1">
            <a:off x="3409560" y="2169720"/>
            <a:ext cx="32868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669960" y="150192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rizontal line connecting a male and a female represents a marri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6"/>
          <p:cNvSpPr/>
          <p:nvPr/>
        </p:nvSpPr>
        <p:spPr>
          <a:xfrm>
            <a:off x="2058840" y="2457360"/>
            <a:ext cx="1944720" cy="10112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420" h="556">
                <a:moveTo>
                  <a:pt x="1420" y="328"/>
                </a:moveTo>
                <a:lnTo>
                  <a:pt x="1420" y="556"/>
                </a:lnTo>
                <a:lnTo>
                  <a:pt x="1113" y="55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204840" y="1774800"/>
            <a:ext cx="32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aded circle or square indicates that a person expresses the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 flipV="1">
            <a:off x="934920" y="2712600"/>
            <a:ext cx="1128960" cy="307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5307120" y="1209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quare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H="1">
            <a:off x="4571640" y="2097000"/>
            <a:ext cx="833400" cy="10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6130800" y="138600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rtical line and a bracket connect the parents to thei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5"/>
          <p:cNvSpPr/>
          <p:nvPr/>
        </p:nvSpPr>
        <p:spPr>
          <a:xfrm>
            <a:off x="4210200" y="2583000"/>
            <a:ext cx="2331720" cy="1166760"/>
          </a:xfrm>
          <a:custGeom>
            <a:avLst/>
            <a:gdLst>
              <a:gd name="textAreaLeft" fmla="*/ 0 w 2331720"/>
              <a:gd name="textAreaRight" fmla="*/ 2332080 w 233172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1469" h="735">
                <a:moveTo>
                  <a:pt x="0" y="557"/>
                </a:moveTo>
                <a:lnTo>
                  <a:pt x="1469" y="0"/>
                </a:lnTo>
                <a:lnTo>
                  <a:pt x="516" y="7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7035840" y="2558880"/>
            <a:ext cx="210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le or square that is not shaded indicates that a person does not express the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6148080" y="3429000"/>
            <a:ext cx="963720" cy="10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only work for traits that are thought to be controlled by genetics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works best on traits the are due to one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conditions are due to recessiv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ill only manifest themselves if a dominant allele is pres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example is cystic fibrosis (CF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by a recessive alle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fferers of cystic fibrosis produce a thick, heavy mucus that clogs their lungs and breathing passage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72880" y="1080720"/>
            <a:ext cx="36784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st common allele that causes cystic fibrosis is missing 3 DNA ba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a result, the amino acid phenylalanine is missing from the CFTR prote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7" descr="gene"/>
          <p:cNvPicPr/>
          <p:nvPr/>
        </p:nvPicPr>
        <p:blipFill>
          <a:blip r:embed="rId1"/>
          <a:stretch/>
        </p:blipFill>
        <p:spPr>
          <a:xfrm>
            <a:off x="4086360" y="493560"/>
            <a:ext cx="4294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72880" y="1095120"/>
            <a:ext cx="4375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l CFTR is a chloride ion channel in cell membra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normal CFTR cannot be transported to the cell membr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t does, it will not transport Cl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eas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Part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Part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6" descr="http://www.epgonline.org/images/tobi/cf-1.jpg"/>
          <p:cNvPicPr/>
          <p:nvPr/>
        </p:nvPicPr>
        <p:blipFill>
          <a:blip r:embed="rId4"/>
          <a:stretch/>
        </p:blipFill>
        <p:spPr>
          <a:xfrm>
            <a:off x="47242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ther conditions are caused by recessiv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Picture 17" descr="chart1"/>
          <p:cNvPicPr/>
          <p:nvPr/>
        </p:nvPicPr>
        <p:blipFill>
          <a:blip r:embed="rId1"/>
          <a:stretch/>
        </p:blipFill>
        <p:spPr>
          <a:xfrm>
            <a:off x="382680" y="1444680"/>
            <a:ext cx="83786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ther conditions arise from codominant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se cases, the heterozygotes have a different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saw this with thalassemia in question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ckle cell disease is another ex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ividuals that are heterozygous for this usually have normal blood cells, but are resistant to mala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456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ally, some conditions are caused by dominant alleles, although it is un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8386920" y="2438280"/>
            <a:ext cx="515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880" y="2362320"/>
          <a:ext cx="8077320" cy="2270160"/>
        </p:xfrm>
        <a:graphic>
          <a:graphicData uri="http://schemas.openxmlformats.org/drawingml/2006/table">
            <a:tbl>
              <a:tblPr/>
              <a:tblGrid>
                <a:gridCol w="2743200"/>
                <a:gridCol w="53341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isorders Caused by Dominant All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hondropl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 type of dwarf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ntington’s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ss of neurons, resulting in mental deterioration and loss of muscle contr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ypercholesterol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cess cholesterol in 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discussed earlier in this unit, the usage of karyotype ch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s have 23 pairs of chromos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sex chromosome pai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2 autosome pai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males have one X and one Y, while females have two X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plit during meiosis, and we can use a Punnett square to determine the possible outcomes for sex of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is, we can see that the mother can only supply a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x of the child is solely due to the fa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rm cells should be produced in equal numbers for X and 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6" descr="C:\Users\jeremy.smith\Desktop\sexsqr1.gif"/>
          <p:cNvPicPr/>
          <p:nvPr/>
        </p:nvPicPr>
        <p:blipFill>
          <a:blip r:embed="rId1"/>
          <a:stretch/>
        </p:blipFill>
        <p:spPr>
          <a:xfrm>
            <a:off x="3048120" y="0"/>
            <a:ext cx="2971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human blood type has multipl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ditional convention for expressing dominance and recessiveness no longer wo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eles are often expressed as superscr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A and B types are codominant, and O is recess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is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B is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nd O is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ollowing chart summarizes the genotypes and phenoty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8769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cause A and B are codominant, they both show up, but do not bl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dividual will be 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ack of either results in 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ale heterozygous for blood type A plans to have children with a female who is heterozygous for B.  What possible blood types could their offspring ha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19920" cy="51706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380880" y="3581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90560" cy="581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4952880" y="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838080" cy="58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5562720" y="304920"/>
            <a:ext cx="809640" cy="6285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2"/>
          <p:cNvSpPr/>
          <p:nvPr/>
        </p:nvSpPr>
        <p:spPr>
          <a:xfrm>
            <a:off x="21337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2209680" y="4648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4"/>
          <p:cNvSpPr/>
          <p:nvPr/>
        </p:nvSpPr>
        <p:spPr>
          <a:xfrm>
            <a:off x="3962520" y="12193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5"/>
          <p:cNvSpPr/>
          <p:nvPr/>
        </p:nvSpPr>
        <p:spPr>
          <a:xfrm>
            <a:off x="6248520" y="1219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6"/>
          <p:cNvSpPr/>
          <p:nvPr/>
        </p:nvSpPr>
        <p:spPr>
          <a:xfrm>
            <a:off x="3809880" y="259092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7"/>
          <p:cNvSpPr/>
          <p:nvPr/>
        </p:nvSpPr>
        <p:spPr>
          <a:xfrm>
            <a:off x="6019920" y="2590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3809880" y="4648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6248520" y="4648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ssible blood types for the offspring would be AB, A, B or 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ly, the Rh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actor is a dominant alle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57:42Z</dcterms:created>
  <dc:creator>ED18</dc:creator>
  <dc:description/>
  <dc:language>en-US</dc:language>
  <cp:lastModifiedBy>ED18</cp:lastModifiedBy>
  <dcterms:modified xsi:type="dcterms:W3CDTF">2011-11-18T13:46:13Z</dcterms:modified>
  <cp:revision>6</cp:revision>
  <dc:subject/>
  <dc:title>Heredity</dc:title>
</cp:coreProperties>
</file>